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3523-6068-4687-81A1-12F9C93DF0E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1D8F-4B79-4268-80D7-5CFFFE11F26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абочем поле щелкаем по выбранным учениками вариантам (например Полководцы – 100), происходит переход на поле вопроса, после ответа учеников, нажмите на кнопку Ответ, кнопка исчезнет вместе с правильным ответом и появится кнопка для перехода к игровому полю для продолжения игры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DC31-8E9B-4B8A-B0DA-996F002F40D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втор В.В. Верещаги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D6AF-5E18-42A7-9019-CF9B9C38ADA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жно дополнительно задать вопрос, а какие еще произведения Крылова посвящены Отечественной войн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т и повар”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(о назначении М.И. Кутузова командующим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“Ворона и курица”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(голодные французы в Москве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“Волк на псарне”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(пребывание Наполеона в Москве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“Собачья дружба”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(Венский конгресс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“Чиж и Ёж”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(восхваление Александра I)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6BC4-5CBA-47CE-B4CE-0681779FE45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B5BE-D9B4-4414-B569-A994C271EC6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на рабочем поле все варианты (например Полководцы – 100), будут перебраны то переходим к последнему слайду, нажимая на кнопку в правом нижнем углу.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6C89-2875-40F3-B4E1-D17E89E4D4DD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старый стиль – по новому 24-го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1D35-FB37-4BD7-BE9A-C4CD7972BE2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начале войны император был главнокомандующим русской армие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D547-1D1A-4EA3-85CD-1CA43788792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втор В.В. Верещаги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898-4772-49C1-A9A6-8CC50A3D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DC6-FF85-4B11-B6D1-9EFAEDB5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F1E-9081-43C3-9B4B-05906A4F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388-85CC-43ED-850F-2B41E06B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EDC8D-1971-48CA-9A46-0ABE8D51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293E3-9C4B-4CED-9374-AAEBC3B2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68B56-E131-4C6E-896B-E2CFFA7B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D52B2-FC21-4A0F-A708-4A417FD8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45717-30DA-4571-8EB1-F6C55D42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7261F-2D11-4129-9FBD-AD998A4F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8DAD4-8EE0-4840-80EB-7B59CF18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60D-9A61-4187-9A84-D1F26BFA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B173E-EAD2-4D89-9EA3-F4EBE793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18C99-2541-436F-84F3-DA8DB92D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B0DC0-356E-48C4-9043-E13BE029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77FF1-F3F8-41A1-8BDE-5712050C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3A6DB-300A-4225-8B6D-F9F35D5E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53E-F013-4625-9F5B-2A5CE09F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829-CF0F-4398-907A-85586D89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FF8-4B1E-4FE4-BB2F-78B46EB3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9E8-B6B1-4075-B2AF-A74E976A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C226-CCB0-402E-8A6E-D259DA5D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1C0-9C4D-4BEA-ACAD-7D400ED9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0F0-4B29-4BB3-BFEA-A082C870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191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B54F-5D5F-450C-B249-EFA0CC56CB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191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5CBD-166B-49ED-80E0-115E94EF0E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slide" Target="slide16.xml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5.xml"/><Relationship Id="rId10" Type="http://schemas.openxmlformats.org/officeDocument/2006/relationships/slide" Target="slide10.xml"/><Relationship Id="rId11" Type="http://schemas.openxmlformats.org/officeDocument/2006/relationships/slide" Target="slide13.xml"/><Relationship Id="rId12" Type="http://schemas.openxmlformats.org/officeDocument/2006/relationships/slide" Target="slide17.xml"/><Relationship Id="rId13" Type="http://schemas.openxmlformats.org/officeDocument/2006/relationships/slide" Target="slide6.xml"/><Relationship Id="rId14" Type="http://schemas.openxmlformats.org/officeDocument/2006/relationships/slide" Target="slide9.xml"/><Relationship Id="rId15" Type="http://schemas.openxmlformats.org/officeDocument/2006/relationships/slide" Target="slide14.xml"/><Relationship Id="rId16" Type="http://schemas.openxmlformats.org/officeDocument/2006/relationships/slide" Target="slide18.xml"/><Relationship Id="rId17" Type="http://schemas.openxmlformats.org/officeDocument/2006/relationships/slide" Target="slide3.xml"/><Relationship Id="rId18" Type="http://schemas.openxmlformats.org/officeDocument/2006/relationships/slide" Target="slide7.xml"/><Relationship Id="rId19" Type="http://schemas.openxmlformats.org/officeDocument/2006/relationships/slide" Target="slide11.xml"/><Relationship Id="rId20" Type="http://schemas.openxmlformats.org/officeDocument/2006/relationships/slide" Target="slide15.xml"/><Relationship Id="rId21" Type="http://schemas.openxmlformats.org/officeDocument/2006/relationships/slide" Target="slide4.xml"/><Relationship Id="rId22" Type="http://schemas.openxmlformats.org/officeDocument/2006/relationships/slide" Target="slide8.xml"/><Relationship Id="rId23" Type="http://schemas.openxmlformats.org/officeDocument/2006/relationships/slide" Target="slide12.xml"/><Relationship Id="rId24" Type="http://schemas.openxmlformats.org/officeDocument/2006/relationships/slide" Target="slide16.xml"/><Relationship Id="rId25" Type="http://schemas.openxmlformats.org/officeDocument/2006/relationships/slide" Target="slide5.xml"/><Relationship Id="rId26" Type="http://schemas.openxmlformats.org/officeDocument/2006/relationships/slide" Target="slide9.xml"/><Relationship Id="rId27" Type="http://schemas.openxmlformats.org/officeDocument/2006/relationships/slide" Target="slide13.xml"/><Relationship Id="rId28" Type="http://schemas.openxmlformats.org/officeDocument/2006/relationships/slide" Target="slide17.xml"/><Relationship Id="rId29" Type="http://schemas.openxmlformats.org/officeDocument/2006/relationships/slide" Target="slide6.xml"/><Relationship Id="rId30" Type="http://schemas.openxmlformats.org/officeDocument/2006/relationships/slide" Target="slide10.xml"/><Relationship Id="rId31" Type="http://schemas.openxmlformats.org/officeDocument/2006/relationships/slide" Target="slide14.xml"/><Relationship Id="rId32" Type="http://schemas.openxmlformats.org/officeDocument/2006/relationships/slide" Target="slide18.xml"/><Relationship Id="rId33" Type="http://schemas.openxmlformats.org/officeDocument/2006/relationships/slide" Target="slide19.xml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hyperlink" Target="http://suvorov.velchel.ru/img/suvorov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hyperlink" Target="http://www.sgvavia.ru/_bl/0/41923103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9" descr="герб2011"/>
          <p:cNvPicPr/>
          <p:nvPr/>
        </p:nvPicPr>
        <p:blipFill>
          <a:blip r:embed="rId1"/>
          <a:stretch/>
        </p:blipFill>
        <p:spPr>
          <a:xfrm>
            <a:off x="108000" y="33336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0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15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6858000" cy="496116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7"/>
          <p:cNvSpPr txBox="1"/>
          <p:nvPr/>
        </p:nvSpPr>
        <p:spPr>
          <a:xfrm>
            <a:off x="1476360" y="0"/>
            <a:ext cx="766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Брейн-ринг: "Недаром помнит вся Россия"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611280" y="58467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Авторы: ученики 5 «А» класса 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уководитель Балашева Татьяна  Владимиров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ородино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Tahoma"/>
              </a:rPr>
              <a:t>40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9" descr=""/>
          <p:cNvPicPr/>
          <p:nvPr/>
        </p:nvPicPr>
        <p:blipFill>
          <a:blip r:embed="rId1"/>
          <a:stretch/>
        </p:blipFill>
        <p:spPr>
          <a:xfrm>
            <a:off x="0" y="1052640"/>
            <a:ext cx="1231920" cy="1800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"/>
          <p:cNvPicPr/>
          <p:nvPr/>
        </p:nvPicPr>
        <p:blipFill>
          <a:blip r:embed="rId2"/>
          <a:stretch/>
        </p:blipFill>
        <p:spPr>
          <a:xfrm>
            <a:off x="4572000" y="4157640"/>
            <a:ext cx="4243320" cy="1414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2"/>
          <p:cNvSpPr/>
          <p:nvPr/>
        </p:nvSpPr>
        <p:spPr>
          <a:xfrm>
            <a:off x="2305080" y="1413000"/>
            <a:ext cx="687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Arial"/>
              </a:rPr>
              <a:t>Наполеон назвал его «лучшим генералом русской армии», а Белинский назвал «львом русской армии, во время Бородинского сражения он был смертельно ранен. Кто это?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13" descr="РисунокБагратион"/>
          <p:cNvPicPr/>
          <p:nvPr/>
        </p:nvPicPr>
        <p:blipFill>
          <a:blip r:embed="rId3"/>
          <a:stretch/>
        </p:blipFill>
        <p:spPr>
          <a:xfrm>
            <a:off x="285840" y="3357720"/>
            <a:ext cx="2054160" cy="2647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4"/>
          <p:cNvSpPr/>
          <p:nvPr/>
        </p:nvSpPr>
        <p:spPr>
          <a:xfrm>
            <a:off x="468360" y="616572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ётр Иванович Багратион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артизаны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900000" y="571824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енис Васильевич Давыдов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4284720" y="1413000"/>
            <a:ext cx="48243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Arial"/>
              </a:rPr>
              <a:t>Его называли отцом партизанской войны, известный поэт и приятель А.С. Пушкина,  гусар, командовал первым партизанским отрядом. Кто это?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Tahoma"/>
              </a:rPr>
              <a:t>10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0" y="1052640"/>
            <a:ext cx="1231920" cy="1800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Рисунок Давыдов"/>
          <p:cNvPicPr/>
          <p:nvPr/>
        </p:nvPicPr>
        <p:blipFill>
          <a:blip r:embed="rId2"/>
          <a:stretch/>
        </p:blipFill>
        <p:spPr>
          <a:xfrm>
            <a:off x="1806480" y="1557360"/>
            <a:ext cx="2260800" cy="3084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"/>
          <p:cNvPicPr/>
          <p:nvPr/>
        </p:nvPicPr>
        <p:blipFill>
          <a:blip r:embed="rId3"/>
          <a:stretch/>
        </p:blipFill>
        <p:spPr>
          <a:xfrm>
            <a:off x="6357960" y="5072040"/>
            <a:ext cx="2570040" cy="62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артизаны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571680" y="6222960"/>
            <a:ext cx="78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рестьянк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Василиса Кожина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2698920" y="1557360"/>
            <a:ext cx="626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Arial"/>
              </a:rPr>
              <a:t>Женщина-партизан из народа, героиня Отечественной войны 1812 года. Назовите ее.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Tahoma"/>
              </a:rPr>
              <a:t>20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1"/>
          <a:stretch/>
        </p:blipFill>
        <p:spPr>
          <a:xfrm>
            <a:off x="0" y="1052640"/>
            <a:ext cx="1231920" cy="1800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4716360" y="3789360"/>
            <a:ext cx="4243320" cy="1414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РисунокКожина"/>
          <p:cNvPicPr/>
          <p:nvPr/>
        </p:nvPicPr>
        <p:blipFill>
          <a:blip r:embed="rId3"/>
          <a:stretch/>
        </p:blipFill>
        <p:spPr>
          <a:xfrm>
            <a:off x="1500120" y="3643200"/>
            <a:ext cx="1838520" cy="25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539640" y="333360"/>
            <a:ext cx="7201080" cy="719280"/>
          </a:xfrm>
          <a:prstGeom prst="roundRect">
            <a:avLst>
              <a:gd name="adj" fmla="val 23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артизаны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428760" y="6126120"/>
            <a:ext cx="680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Александр Самойлович Фигнер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132000" y="1341360"/>
            <a:ext cx="61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Он командовал партизанским отрядом "Легион смерти"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Наполеон объявил за его голову высокую награду. Владея несколькими языками французским, немецким, итальянским и польским, он проникал в тыл противника, доставая важные сведения. Кто это?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Tahoma"/>
              </a:rPr>
              <a:t>30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8" descr=""/>
          <p:cNvPicPr/>
          <p:nvPr/>
        </p:nvPicPr>
        <p:blipFill>
          <a:blip r:embed="rId1"/>
          <a:stretch/>
        </p:blipFill>
        <p:spPr>
          <a:xfrm>
            <a:off x="0" y="1052640"/>
            <a:ext cx="1231920" cy="1800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"/>
          <p:cNvPicPr/>
          <p:nvPr/>
        </p:nvPicPr>
        <p:blipFill>
          <a:blip r:embed="rId2"/>
          <a:stretch/>
        </p:blipFill>
        <p:spPr>
          <a:xfrm>
            <a:off x="6037200" y="4857840"/>
            <a:ext cx="2998800" cy="1000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Александр Фигнер"/>
          <p:cNvPicPr/>
          <p:nvPr/>
        </p:nvPicPr>
        <p:blipFill>
          <a:blip r:embed="rId3"/>
          <a:stretch/>
        </p:blipFill>
        <p:spPr>
          <a:xfrm>
            <a:off x="1254240" y="3862440"/>
            <a:ext cx="18777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артизаны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971640" y="584676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еребряная медаль «За любовь к Отечеству»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492360" y="1484280"/>
            <a:ext cx="54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Arial"/>
              </a:rPr>
              <a:t>Какой наградой Александр I наградил 25 особо отличившихся крестьян - партизан Московской губернии?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Tahoma"/>
              </a:rPr>
              <a:t>40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1"/>
          <a:stretch/>
        </p:blipFill>
        <p:spPr>
          <a:xfrm>
            <a:off x="0" y="1052640"/>
            <a:ext cx="1231920" cy="1800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2"/>
          <a:stretch/>
        </p:blipFill>
        <p:spPr>
          <a:xfrm>
            <a:off x="4716360" y="3716280"/>
            <a:ext cx="424332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Медаль_Любовь_к_Отечеству_2"/>
          <p:cNvPicPr/>
          <p:nvPr/>
        </p:nvPicPr>
        <p:blipFill>
          <a:blip r:embed="rId3"/>
          <a:stretch/>
        </p:blipFill>
        <p:spPr>
          <a:xfrm>
            <a:off x="1332000" y="3728880"/>
            <a:ext cx="1861920" cy="21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аграды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4861080" y="616572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6 наград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3635280" y="1557360"/>
            <a:ext cx="55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Arial"/>
              </a:rPr>
              <a:t>Сколько наград появилось после Отечественной войны 1812 года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Tahoma"/>
              </a:rPr>
              <a:t>10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1"/>
          <a:stretch/>
        </p:blipFill>
        <p:spPr>
          <a:xfrm>
            <a:off x="0" y="1052640"/>
            <a:ext cx="1231920" cy="1800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Pamyat1812_enl мед В память От"/>
          <p:cNvPicPr/>
          <p:nvPr/>
        </p:nvPicPr>
        <p:blipFill>
          <a:blip r:embed="rId2"/>
          <a:stretch/>
        </p:blipFill>
        <p:spPr>
          <a:xfrm>
            <a:off x="2627280" y="2565360"/>
            <a:ext cx="1944720" cy="1009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57808932_medal_za_vzyatie_parizha"/>
          <p:cNvPicPr/>
          <p:nvPr/>
        </p:nvPicPr>
        <p:blipFill>
          <a:blip r:embed="rId3"/>
          <a:stretch/>
        </p:blipFill>
        <p:spPr>
          <a:xfrm>
            <a:off x="2627280" y="4653000"/>
            <a:ext cx="1944720" cy="1166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57808781_bronzovaya_Medal_1812_god"/>
          <p:cNvPicPr/>
          <p:nvPr/>
        </p:nvPicPr>
        <p:blipFill>
          <a:blip r:embed="rId4"/>
          <a:stretch/>
        </p:blipFill>
        <p:spPr>
          <a:xfrm>
            <a:off x="2627280" y="3573360"/>
            <a:ext cx="1944720" cy="1089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57808544_Serebryannaya_medalnagrada_uchastnikam_voynuy_1812_goda"/>
          <p:cNvPicPr/>
          <p:nvPr/>
        </p:nvPicPr>
        <p:blipFill>
          <a:blip r:embed="rId5"/>
          <a:stretch/>
        </p:blipFill>
        <p:spPr>
          <a:xfrm>
            <a:off x="2627280" y="5805360"/>
            <a:ext cx="1944720" cy="1022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5" descr="Медный крест"/>
          <p:cNvPicPr/>
          <p:nvPr/>
        </p:nvPicPr>
        <p:blipFill>
          <a:blip r:embed="rId6"/>
          <a:stretch/>
        </p:blipFill>
        <p:spPr>
          <a:xfrm>
            <a:off x="1403280" y="2598840"/>
            <a:ext cx="1255680" cy="4214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6" descr="Медаль_Любовь_к_Отечеству_2"/>
          <p:cNvPicPr/>
          <p:nvPr/>
        </p:nvPicPr>
        <p:blipFill>
          <a:blip r:embed="rId7"/>
          <a:stretch/>
        </p:blipFill>
        <p:spPr>
          <a:xfrm>
            <a:off x="4572000" y="4653000"/>
            <a:ext cx="996840" cy="1150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7" descr="Медаль_Любовь_к_Отечеству_1"/>
          <p:cNvPicPr/>
          <p:nvPr/>
        </p:nvPicPr>
        <p:blipFill>
          <a:blip r:embed="rId8"/>
          <a:stretch/>
        </p:blipFill>
        <p:spPr>
          <a:xfrm>
            <a:off x="5580000" y="4653000"/>
            <a:ext cx="1011240" cy="1147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8" descr=""/>
          <p:cNvPicPr/>
          <p:nvPr/>
        </p:nvPicPr>
        <p:blipFill>
          <a:blip r:embed="rId9"/>
          <a:stretch/>
        </p:blipFill>
        <p:spPr>
          <a:xfrm>
            <a:off x="5110200" y="2995560"/>
            <a:ext cx="3998880" cy="115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аграды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395280" y="58626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еребряная медаль «За взятие Парижа»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392640" y="1413000"/>
            <a:ext cx="5894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Arial"/>
              </a:rPr>
              <a:t>Какой медалью награждались генералы, офицеры и солдаты, участвовавшие в заграничной кампании в составе Действующей армии до 19 марта 1814 г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Tahoma"/>
              </a:rPr>
              <a:t>20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10" descr=""/>
          <p:cNvPicPr/>
          <p:nvPr/>
        </p:nvPicPr>
        <p:blipFill>
          <a:blip r:embed="rId1"/>
          <a:stretch/>
        </p:blipFill>
        <p:spPr>
          <a:xfrm>
            <a:off x="0" y="1052640"/>
            <a:ext cx="1231920" cy="1800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"/>
          <p:cNvPicPr/>
          <p:nvPr/>
        </p:nvPicPr>
        <p:blipFill>
          <a:blip r:embed="rId2"/>
          <a:stretch/>
        </p:blipFill>
        <p:spPr>
          <a:xfrm>
            <a:off x="5656320" y="4581360"/>
            <a:ext cx="3487680" cy="1162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57808932_medal_za_vzyatie_parizha"/>
          <p:cNvPicPr/>
          <p:nvPr/>
        </p:nvPicPr>
        <p:blipFill>
          <a:blip r:embed="rId3"/>
          <a:stretch/>
        </p:blipFill>
        <p:spPr>
          <a:xfrm>
            <a:off x="755640" y="4307040"/>
            <a:ext cx="285768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>
            <a:off x="7418520" y="6308640"/>
            <a:ext cx="1474560" cy="466920"/>
          </a:xfrm>
          <a:custGeom>
            <a:avLst/>
            <a:gdLst>
              <a:gd name="textAreaLeft" fmla="*/ 30240 w 1474560"/>
              <a:gd name="textAreaRight" fmla="*/ 1444320 w 147456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78" h="21600">
                <a:moveTo>
                  <a:pt x="0" y="0"/>
                </a:moveTo>
                <a:lnTo>
                  <a:pt x="68178" y="0"/>
                </a:lnTo>
                <a:lnTo>
                  <a:pt x="68178" y="21600"/>
                </a:lnTo>
                <a:lnTo>
                  <a:pt x="0" y="21600"/>
                </a:lnTo>
                <a:close/>
              </a:path>
              <a:path fill="lightenLess" w="68178" h="21600">
                <a:moveTo>
                  <a:pt x="0" y="0"/>
                </a:moveTo>
                <a:lnTo>
                  <a:pt x="68178" y="0"/>
                </a:lnTo>
                <a:lnTo>
                  <a:pt x="66778" y="1400"/>
                </a:lnTo>
                <a:lnTo>
                  <a:pt x="1400" y="1400"/>
                </a:lnTo>
                <a:close/>
              </a:path>
              <a:path fill="darken" w="68178" h="21600">
                <a:moveTo>
                  <a:pt x="68178" y="0"/>
                </a:moveTo>
                <a:lnTo>
                  <a:pt x="68178" y="21600"/>
                </a:lnTo>
                <a:lnTo>
                  <a:pt x="66778" y="20200"/>
                </a:lnTo>
                <a:lnTo>
                  <a:pt x="66778" y="1400"/>
                </a:lnTo>
                <a:close/>
              </a:path>
              <a:path fill="darkenLess" w="68178" h="21600">
                <a:moveTo>
                  <a:pt x="68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78" y="20200"/>
                </a:lnTo>
                <a:close/>
              </a:path>
              <a:path fill="lighten" w="68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аграды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395280" y="5373720"/>
            <a:ext cx="626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5292720" y="1484280"/>
            <a:ext cx="352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Tahoma"/>
              </a:rPr>
              <a:t>30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9" descr=""/>
          <p:cNvPicPr/>
          <p:nvPr/>
        </p:nvPicPr>
        <p:blipFill>
          <a:blip r:embed="rId1"/>
          <a:stretch/>
        </p:blipFill>
        <p:spPr>
          <a:xfrm>
            <a:off x="0" y="1052640"/>
            <a:ext cx="1231920" cy="1800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"/>
          <p:cNvPicPr/>
          <p:nvPr/>
        </p:nvPicPr>
        <p:blipFill>
          <a:blip r:embed="rId2"/>
          <a:stretch/>
        </p:blipFill>
        <p:spPr>
          <a:xfrm>
            <a:off x="4716360" y="4300560"/>
            <a:ext cx="4243320" cy="14144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1"/>
          <p:cNvSpPr/>
          <p:nvPr/>
        </p:nvSpPr>
        <p:spPr>
          <a:xfrm>
            <a:off x="4572000" y="1500120"/>
            <a:ext cx="439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В истории Кутузов стал первым полным кавалером какого ордена?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826920" y="6165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рден Святого Георги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13" descr="iCAJN2M0U"/>
          <p:cNvPicPr/>
          <p:nvPr/>
        </p:nvPicPr>
        <p:blipFill>
          <a:blip r:embed="rId3"/>
          <a:stretch/>
        </p:blipFill>
        <p:spPr>
          <a:xfrm>
            <a:off x="1763640" y="1989000"/>
            <a:ext cx="225576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аграды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95280" y="6021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50920" y="1484280"/>
            <a:ext cx="864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Tahoma"/>
              </a:rPr>
              <a:t>40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0" y="1052640"/>
            <a:ext cx="1231920" cy="1800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"/>
          <p:cNvPicPr/>
          <p:nvPr/>
        </p:nvPicPr>
        <p:blipFill>
          <a:blip r:embed="rId2"/>
          <a:stretch/>
        </p:blipFill>
        <p:spPr>
          <a:xfrm>
            <a:off x="4716360" y="4005360"/>
            <a:ext cx="4243320" cy="14144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1"/>
          <p:cNvSpPr/>
          <p:nvPr/>
        </p:nvSpPr>
        <p:spPr>
          <a:xfrm>
            <a:off x="4140360" y="1484280"/>
            <a:ext cx="482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 каком году был учреждён орден Кутузова- знак уважения к великому полководцу?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395280" y="600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1942 году 29 июля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16" descr="1304291165_6"/>
          <p:cNvPicPr/>
          <p:nvPr/>
        </p:nvPicPr>
        <p:blipFill>
          <a:blip r:embed="rId3"/>
          <a:stretch/>
        </p:blipFill>
        <p:spPr>
          <a:xfrm>
            <a:off x="395280" y="3933720"/>
            <a:ext cx="403236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7343640" y="5300640"/>
            <a:ext cx="1692360" cy="1531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Рисунок16"/>
          <p:cNvPicPr/>
          <p:nvPr/>
        </p:nvPicPr>
        <p:blipFill>
          <a:blip r:embed="rId2"/>
          <a:stretch/>
        </p:blipFill>
        <p:spPr>
          <a:xfrm>
            <a:off x="1332000" y="2637000"/>
            <a:ext cx="2698560" cy="3371760"/>
          </a:xfrm>
          <a:prstGeom prst="rect">
            <a:avLst/>
          </a:prstGeom>
          <a:ln w="0">
            <a:noFill/>
          </a:ln>
        </p:spPr>
      </p:pic>
      <p:sp>
        <p:nvSpPr>
          <p:cNvPr id="302" name="WordArt 6"/>
          <p:cNvSpPr txBox="1"/>
          <p:nvPr/>
        </p:nvSpPr>
        <p:spPr>
          <a:xfrm>
            <a:off x="2700360" y="1484280"/>
            <a:ext cx="604836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Спасибо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303" name="WordArt 8"/>
          <p:cNvSpPr txBox="1"/>
          <p:nvPr/>
        </p:nvSpPr>
        <p:spPr>
          <a:xfrm>
            <a:off x="4356000" y="2852640"/>
            <a:ext cx="24480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з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304" name="WordArt 10"/>
          <p:cNvSpPr txBox="1"/>
          <p:nvPr/>
        </p:nvSpPr>
        <p:spPr>
          <a:xfrm>
            <a:off x="3851280" y="4005360"/>
            <a:ext cx="49687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Verdana"/>
              </a:rPr>
              <a:t>игру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Verdana"/>
              <a:ea typeface="Verdana"/>
            </a:endParaRPr>
          </a:p>
        </p:txBody>
      </p:sp>
      <p:pic>
        <p:nvPicPr>
          <p:cNvPr id="305" name="Picture 11" descr=""/>
          <p:cNvPicPr/>
          <p:nvPr/>
        </p:nvPicPr>
        <p:blipFill>
          <a:blip r:embed="rId3"/>
          <a:stretch/>
        </p:blipFill>
        <p:spPr>
          <a:xfrm>
            <a:off x="5221440" y="25560"/>
            <a:ext cx="3671640" cy="1242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4" descr=""/>
          <p:cNvPicPr/>
          <p:nvPr/>
        </p:nvPicPr>
        <p:blipFill>
          <a:blip r:embed="rId4"/>
          <a:stretch/>
        </p:blipFill>
        <p:spPr>
          <a:xfrm>
            <a:off x="0" y="476280"/>
            <a:ext cx="12319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611280" y="1555920"/>
            <a:ext cx="1871640" cy="103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5">
            <a:hlinkClick r:id="rId2" action="ppaction://hlinksldjump"/>
          </p:cNvPr>
          <p:cNvSpPr/>
          <p:nvPr/>
        </p:nvSpPr>
        <p:spPr>
          <a:xfrm>
            <a:off x="2638440" y="1554120"/>
            <a:ext cx="1871640" cy="103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6">
            <a:hlinkClick r:id="rId3" action="ppaction://hlinksldjump"/>
          </p:cNvPr>
          <p:cNvSpPr/>
          <p:nvPr/>
        </p:nvSpPr>
        <p:spPr>
          <a:xfrm>
            <a:off x="4632480" y="1555920"/>
            <a:ext cx="1871640" cy="103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7">
            <a:hlinkClick r:id="rId4" action="ppaction://hlinksldjump"/>
          </p:cNvPr>
          <p:cNvSpPr/>
          <p:nvPr/>
        </p:nvSpPr>
        <p:spPr>
          <a:xfrm>
            <a:off x="6648480" y="1555920"/>
            <a:ext cx="1871640" cy="103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9">
            <a:hlinkClick r:id="rId5" action="ppaction://hlinksldjump"/>
          </p:cNvPr>
          <p:cNvSpPr/>
          <p:nvPr/>
        </p:nvSpPr>
        <p:spPr>
          <a:xfrm>
            <a:off x="622440" y="2716200"/>
            <a:ext cx="1871640" cy="103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10">
            <a:hlinkClick r:id="rId6" action="ppaction://hlinksldjump"/>
          </p:cNvPr>
          <p:cNvSpPr/>
          <p:nvPr/>
        </p:nvSpPr>
        <p:spPr>
          <a:xfrm>
            <a:off x="2649600" y="2714760"/>
            <a:ext cx="1871640" cy="103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11">
            <a:hlinkClick r:id="rId7" action="ppaction://hlinksldjump"/>
          </p:cNvPr>
          <p:cNvSpPr/>
          <p:nvPr/>
        </p:nvSpPr>
        <p:spPr>
          <a:xfrm>
            <a:off x="4643280" y="2716200"/>
            <a:ext cx="1872000" cy="103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12">
            <a:hlinkClick r:id="rId8" action="ppaction://hlinksldjump"/>
          </p:cNvPr>
          <p:cNvSpPr/>
          <p:nvPr/>
        </p:nvSpPr>
        <p:spPr>
          <a:xfrm>
            <a:off x="6659640" y="2716200"/>
            <a:ext cx="1871640" cy="103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14">
            <a:hlinkClick r:id="rId9" action="ppaction://hlinksldjump"/>
          </p:cNvPr>
          <p:cNvSpPr/>
          <p:nvPr/>
        </p:nvSpPr>
        <p:spPr>
          <a:xfrm>
            <a:off x="622440" y="3868560"/>
            <a:ext cx="1871640" cy="103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15">
            <a:hlinkClick r:id="rId10" action="ppaction://hlinksldjump"/>
          </p:cNvPr>
          <p:cNvSpPr/>
          <p:nvPr/>
        </p:nvSpPr>
        <p:spPr>
          <a:xfrm>
            <a:off x="2649600" y="3867120"/>
            <a:ext cx="1871640" cy="103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16">
            <a:hlinkClick r:id="rId11" action="ppaction://hlinksldjump"/>
          </p:cNvPr>
          <p:cNvSpPr/>
          <p:nvPr/>
        </p:nvSpPr>
        <p:spPr>
          <a:xfrm>
            <a:off x="4643280" y="3868560"/>
            <a:ext cx="1872000" cy="103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17">
            <a:hlinkClick r:id="rId12" action="ppaction://hlinksldjump"/>
          </p:cNvPr>
          <p:cNvSpPr/>
          <p:nvPr/>
        </p:nvSpPr>
        <p:spPr>
          <a:xfrm>
            <a:off x="6659640" y="3868560"/>
            <a:ext cx="1871640" cy="103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19">
            <a:hlinkClick r:id="rId13" action="ppaction://hlinksldjump"/>
          </p:cNvPr>
          <p:cNvSpPr/>
          <p:nvPr/>
        </p:nvSpPr>
        <p:spPr>
          <a:xfrm>
            <a:off x="622440" y="5021280"/>
            <a:ext cx="1871640" cy="103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20">
            <a:hlinkClick r:id="rId14" action="ppaction://hlinksldjump"/>
          </p:cNvPr>
          <p:cNvSpPr/>
          <p:nvPr/>
        </p:nvSpPr>
        <p:spPr>
          <a:xfrm>
            <a:off x="2649600" y="5019840"/>
            <a:ext cx="1871640" cy="103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21">
            <a:hlinkClick r:id="rId15" action="ppaction://hlinksldjump"/>
          </p:cNvPr>
          <p:cNvSpPr/>
          <p:nvPr/>
        </p:nvSpPr>
        <p:spPr>
          <a:xfrm>
            <a:off x="4643280" y="5021280"/>
            <a:ext cx="1872000" cy="103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22">
            <a:hlinkClick r:id="rId16" action="ppaction://hlinksldjump"/>
          </p:cNvPr>
          <p:cNvSpPr/>
          <p:nvPr/>
        </p:nvSpPr>
        <p:spPr>
          <a:xfrm>
            <a:off x="6659640" y="5021280"/>
            <a:ext cx="1871640" cy="103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4">
            <a:hlinkClick r:id="rId17" action="ppaction://hlinksldjump"/>
          </p:cNvPr>
          <p:cNvSpPr/>
          <p:nvPr/>
        </p:nvSpPr>
        <p:spPr>
          <a:xfrm>
            <a:off x="611280" y="1547640"/>
            <a:ext cx="1871640" cy="1035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100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AutoShape 5">
            <a:hlinkClick r:id="rId18" action="ppaction://hlinksldjump"/>
          </p:cNvPr>
          <p:cNvSpPr/>
          <p:nvPr/>
        </p:nvSpPr>
        <p:spPr>
          <a:xfrm>
            <a:off x="2638440" y="1546200"/>
            <a:ext cx="1871640" cy="1035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100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6">
            <a:hlinkClick r:id="rId19" action="ppaction://hlinksldjump"/>
          </p:cNvPr>
          <p:cNvSpPr/>
          <p:nvPr/>
        </p:nvSpPr>
        <p:spPr>
          <a:xfrm>
            <a:off x="4632480" y="1547640"/>
            <a:ext cx="1871640" cy="1035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100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7">
            <a:hlinkClick r:id="rId20" action="ppaction://hlinksldjump"/>
          </p:cNvPr>
          <p:cNvSpPr/>
          <p:nvPr/>
        </p:nvSpPr>
        <p:spPr>
          <a:xfrm>
            <a:off x="6648480" y="1547640"/>
            <a:ext cx="1871640" cy="1035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100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9">
            <a:hlinkClick r:id="rId21" action="ppaction://hlinksldjump"/>
          </p:cNvPr>
          <p:cNvSpPr/>
          <p:nvPr/>
        </p:nvSpPr>
        <p:spPr>
          <a:xfrm>
            <a:off x="622440" y="2708280"/>
            <a:ext cx="1871640" cy="1035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200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AutoShape 10">
            <a:hlinkClick r:id="rId22" action="ppaction://hlinksldjump"/>
          </p:cNvPr>
          <p:cNvSpPr/>
          <p:nvPr/>
        </p:nvSpPr>
        <p:spPr>
          <a:xfrm>
            <a:off x="2649600" y="2706840"/>
            <a:ext cx="1871640" cy="1035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200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AutoShape 11">
            <a:hlinkClick r:id="rId23" action="ppaction://hlinksldjump"/>
          </p:cNvPr>
          <p:cNvSpPr/>
          <p:nvPr/>
        </p:nvSpPr>
        <p:spPr>
          <a:xfrm>
            <a:off x="4643280" y="2708280"/>
            <a:ext cx="1872000" cy="1035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200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12">
            <a:hlinkClick r:id="rId24" action="ppaction://hlinksldjump"/>
          </p:cNvPr>
          <p:cNvSpPr/>
          <p:nvPr/>
        </p:nvSpPr>
        <p:spPr>
          <a:xfrm>
            <a:off x="6659640" y="2708280"/>
            <a:ext cx="1871640" cy="1035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200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14">
            <a:hlinkClick r:id="rId25" action="ppaction://hlinksldjump"/>
          </p:cNvPr>
          <p:cNvSpPr/>
          <p:nvPr/>
        </p:nvSpPr>
        <p:spPr>
          <a:xfrm>
            <a:off x="622440" y="3860640"/>
            <a:ext cx="1871640" cy="1035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300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15">
            <a:hlinkClick r:id="rId26" action="ppaction://hlinksldjump"/>
          </p:cNvPr>
          <p:cNvSpPr/>
          <p:nvPr/>
        </p:nvSpPr>
        <p:spPr>
          <a:xfrm>
            <a:off x="2649600" y="3859200"/>
            <a:ext cx="1871640" cy="1035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300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16">
            <a:hlinkClick r:id="rId27" action="ppaction://hlinksldjump"/>
          </p:cNvPr>
          <p:cNvSpPr/>
          <p:nvPr/>
        </p:nvSpPr>
        <p:spPr>
          <a:xfrm>
            <a:off x="4643280" y="3860640"/>
            <a:ext cx="1872000" cy="1035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300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7">
            <a:hlinkClick r:id="rId28" action="ppaction://hlinksldjump"/>
          </p:cNvPr>
          <p:cNvSpPr/>
          <p:nvPr/>
        </p:nvSpPr>
        <p:spPr>
          <a:xfrm>
            <a:off x="6659640" y="3860640"/>
            <a:ext cx="1871640" cy="1035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300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AutoShape 19">
            <a:hlinkClick r:id="rId29" action="ppaction://hlinksldjump"/>
          </p:cNvPr>
          <p:cNvSpPr/>
          <p:nvPr/>
        </p:nvSpPr>
        <p:spPr>
          <a:xfrm>
            <a:off x="622440" y="5013360"/>
            <a:ext cx="1871640" cy="1035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400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20">
            <a:hlinkClick r:id="rId30" action="ppaction://hlinksldjump"/>
          </p:cNvPr>
          <p:cNvSpPr/>
          <p:nvPr/>
        </p:nvSpPr>
        <p:spPr>
          <a:xfrm>
            <a:off x="2649600" y="5011560"/>
            <a:ext cx="1871640" cy="1035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400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21">
            <a:hlinkClick r:id="rId31" action="ppaction://hlinksldjump"/>
          </p:cNvPr>
          <p:cNvSpPr/>
          <p:nvPr/>
        </p:nvSpPr>
        <p:spPr>
          <a:xfrm>
            <a:off x="4643280" y="5013360"/>
            <a:ext cx="1872000" cy="1035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400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22">
            <a:hlinkClick r:id="rId32" action="ppaction://hlinksldjump"/>
          </p:cNvPr>
          <p:cNvSpPr/>
          <p:nvPr/>
        </p:nvSpPr>
        <p:spPr>
          <a:xfrm>
            <a:off x="6659640" y="5013360"/>
            <a:ext cx="1871640" cy="1035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400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29"/>
          <p:cNvSpPr/>
          <p:nvPr/>
        </p:nvSpPr>
        <p:spPr>
          <a:xfrm>
            <a:off x="611280" y="404640"/>
            <a:ext cx="1871640" cy="10526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утузов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30"/>
          <p:cNvSpPr/>
          <p:nvPr/>
        </p:nvSpPr>
        <p:spPr>
          <a:xfrm>
            <a:off x="2627280" y="404640"/>
            <a:ext cx="1871640" cy="10526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ородин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31"/>
          <p:cNvSpPr/>
          <p:nvPr/>
        </p:nvSpPr>
        <p:spPr>
          <a:xfrm>
            <a:off x="4643280" y="404640"/>
            <a:ext cx="1872000" cy="10526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артизан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utoShape 32"/>
          <p:cNvSpPr/>
          <p:nvPr/>
        </p:nvSpPr>
        <p:spPr>
          <a:xfrm>
            <a:off x="6659640" y="404640"/>
            <a:ext cx="1871640" cy="10526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град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AutoShape 60">
            <a:hlinkClick r:id="rId33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16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21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539640" y="260280"/>
            <a:ext cx="7201080" cy="719280"/>
          </a:xfrm>
          <a:prstGeom prst="roundRect">
            <a:avLst>
              <a:gd name="adj" fmla="val 23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утузов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576360" y="5661000"/>
            <a:ext cx="685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Михаил Илларионови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Голени́щев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утузов Смоленский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788000" y="1450800"/>
            <a:ext cx="4248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азовите вторую часть фамилии Михаила Илларионовича Кутузов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Tahoma"/>
              </a:rPr>
              <a:t>10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2" descr=""/>
          <p:cNvPicPr/>
          <p:nvPr/>
        </p:nvPicPr>
        <p:blipFill>
          <a:blip r:embed="rId2"/>
          <a:stretch/>
        </p:blipFill>
        <p:spPr>
          <a:xfrm>
            <a:off x="4716360" y="4005360"/>
            <a:ext cx="4243320" cy="14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5" descr="1812-4-3-1"/>
          <p:cNvPicPr/>
          <p:nvPr/>
        </p:nvPicPr>
        <p:blipFill>
          <a:blip r:embed="rId3"/>
          <a:stretch/>
        </p:blipFill>
        <p:spPr>
          <a:xfrm>
            <a:off x="1619280" y="1628640"/>
            <a:ext cx="2951280" cy="381636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26"/>
          <p:cNvSpPr/>
          <p:nvPr/>
        </p:nvSpPr>
        <p:spPr>
          <a:xfrm>
            <a:off x="539640" y="260280"/>
            <a:ext cx="7201080" cy="719280"/>
          </a:xfrm>
          <a:prstGeom prst="roundRect">
            <a:avLst>
              <a:gd name="adj" fmla="val 23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утузов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28" descr=""/>
          <p:cNvPicPr/>
          <p:nvPr/>
        </p:nvPicPr>
        <p:blipFill>
          <a:blip r:embed="rId4"/>
          <a:stretch/>
        </p:blipFill>
        <p:spPr>
          <a:xfrm>
            <a:off x="100080" y="1052640"/>
            <a:ext cx="123192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утузов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26920" y="5857920"/>
            <a:ext cx="61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Алекса́ндр Васи́льевич Суво́ро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214720" y="1413000"/>
            <a:ext cx="6862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Arial"/>
              </a:rPr>
              <a:t>Кто сказал о Кутузове: « Он дрался на левом фланге, но был моей правой рукой 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Tahoma"/>
              </a:rPr>
              <a:t>20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8" descr=""/>
          <p:cNvPicPr/>
          <p:nvPr/>
        </p:nvPicPr>
        <p:blipFill>
          <a:blip r:embed="rId2"/>
          <a:stretch/>
        </p:blipFill>
        <p:spPr>
          <a:xfrm>
            <a:off x="4829040" y="3143160"/>
            <a:ext cx="4243680" cy="141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3"/>
          <a:stretch/>
        </p:blipFill>
        <p:spPr>
          <a:xfrm>
            <a:off x="100080" y="1197000"/>
            <a:ext cx="1231920" cy="180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Картинка 16 из 15818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11120" y="3000240"/>
            <a:ext cx="2189160" cy="28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утузов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260360" y="538632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В Казанском соборе в Санкт-Петербург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140360" y="1484280"/>
            <a:ext cx="48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Где был похоронен фельдмаршал М. И. Кутузов?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Tahoma"/>
              </a:rPr>
              <a:t>30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613400" y="3068640"/>
            <a:ext cx="4530600" cy="1509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kutuzov-sobor2"/>
          <p:cNvPicPr/>
          <p:nvPr/>
        </p:nvPicPr>
        <p:blipFill>
          <a:blip r:embed="rId3"/>
          <a:stretch/>
        </p:blipFill>
        <p:spPr>
          <a:xfrm>
            <a:off x="1403280" y="3141720"/>
            <a:ext cx="3097440" cy="2324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27000" y="1197000"/>
            <a:ext cx="12319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466560" y="333360"/>
            <a:ext cx="7201080" cy="719280"/>
          </a:xfrm>
          <a:prstGeom prst="roundRect">
            <a:avLst>
              <a:gd name="adj" fmla="val 23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утузов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95280" y="558972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Бунцлау в конце апреля 1813 года умер Кутузо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861080" y="1628640"/>
            <a:ext cx="403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Где и когда умер Михаил Илларионович Кутузов?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Tahoma"/>
              </a:rPr>
              <a:t>40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4656240" y="3716280"/>
            <a:ext cx="4308480" cy="1435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3"/>
          <a:stretch/>
        </p:blipFill>
        <p:spPr>
          <a:xfrm>
            <a:off x="100080" y="1197000"/>
            <a:ext cx="1231920" cy="1800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Картинка 2 из 40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52760" y="155736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1116000" y="260280"/>
            <a:ext cx="7201080" cy="719280"/>
          </a:xfrm>
          <a:prstGeom prst="roundRect">
            <a:avLst>
              <a:gd name="adj" fmla="val 23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ородино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826920" y="5722920"/>
            <a:ext cx="703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26 08 181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года произошло Бородинское сражени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3130560" y="155736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Arial"/>
              </a:rPr>
              <a:t>Когда началась битва при Бородино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Tahoma"/>
              </a:rPr>
              <a:t>10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5" descr=""/>
          <p:cNvPicPr/>
          <p:nvPr/>
        </p:nvPicPr>
        <p:blipFill>
          <a:blip r:embed="rId2"/>
          <a:stretch/>
        </p:blipFill>
        <p:spPr>
          <a:xfrm>
            <a:off x="0" y="1052640"/>
            <a:ext cx="1231920" cy="1800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"/>
          <p:cNvPicPr/>
          <p:nvPr/>
        </p:nvPicPr>
        <p:blipFill>
          <a:blip r:embed="rId3"/>
          <a:stretch/>
        </p:blipFill>
        <p:spPr>
          <a:xfrm>
            <a:off x="4792680" y="2565360"/>
            <a:ext cx="4243320" cy="1414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0" descr="2010-01-30_21-25-01"/>
          <p:cNvPicPr/>
          <p:nvPr/>
        </p:nvPicPr>
        <p:blipFill>
          <a:blip r:embed="rId4"/>
          <a:stretch/>
        </p:blipFill>
        <p:spPr>
          <a:xfrm>
            <a:off x="1276200" y="3071880"/>
            <a:ext cx="344016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ородино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205080" y="6237360"/>
            <a:ext cx="34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12 - 15 часов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Tahoma"/>
              </a:rPr>
              <a:t>20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2"/>
          <a:stretch/>
        </p:blipFill>
        <p:spPr>
          <a:xfrm>
            <a:off x="0" y="1052640"/>
            <a:ext cx="1231920" cy="1800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5621400" y="3016080"/>
            <a:ext cx="3379680" cy="11271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2"/>
          <p:cNvSpPr/>
          <p:nvPr/>
        </p:nvSpPr>
        <p:spPr>
          <a:xfrm>
            <a:off x="3059280" y="148428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Arial"/>
              </a:rPr>
              <a:t>Сколько часов длилось Бородинское сражение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14" descr="head"/>
          <p:cNvPicPr/>
          <p:nvPr/>
        </p:nvPicPr>
        <p:blipFill>
          <a:blip r:embed="rId4"/>
          <a:stretch/>
        </p:blipFill>
        <p:spPr>
          <a:xfrm>
            <a:off x="928800" y="4076640"/>
            <a:ext cx="4519440" cy="21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7380360" y="5734080"/>
            <a:ext cx="1474560" cy="466560"/>
          </a:xfrm>
          <a:custGeom>
            <a:avLst/>
            <a:gdLst>
              <a:gd name="textAreaLeft" fmla="*/ 30240 w 1474560"/>
              <a:gd name="textAreaRight" fmla="*/ 1444320 w 1474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31" h="21600">
                <a:moveTo>
                  <a:pt x="0" y="0"/>
                </a:moveTo>
                <a:lnTo>
                  <a:pt x="68231" y="0"/>
                </a:lnTo>
                <a:lnTo>
                  <a:pt x="68231" y="21600"/>
                </a:lnTo>
                <a:lnTo>
                  <a:pt x="0" y="21600"/>
                </a:lnTo>
                <a:close/>
              </a:path>
              <a:path fill="lightenLess" w="68231" h="21600">
                <a:moveTo>
                  <a:pt x="0" y="0"/>
                </a:moveTo>
                <a:lnTo>
                  <a:pt x="68231" y="0"/>
                </a:lnTo>
                <a:lnTo>
                  <a:pt x="66831" y="1400"/>
                </a:lnTo>
                <a:lnTo>
                  <a:pt x="1400" y="1400"/>
                </a:lnTo>
                <a:close/>
              </a:path>
              <a:path fill="darken" w="68231" h="21600">
                <a:moveTo>
                  <a:pt x="68231" y="0"/>
                </a:moveTo>
                <a:lnTo>
                  <a:pt x="68231" y="21600"/>
                </a:lnTo>
                <a:lnTo>
                  <a:pt x="66831" y="20200"/>
                </a:lnTo>
                <a:lnTo>
                  <a:pt x="66831" y="1400"/>
                </a:lnTo>
                <a:close/>
              </a:path>
              <a:path fill="darkenLess" w="68231" h="21600">
                <a:moveTo>
                  <a:pt x="68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31" y="20200"/>
                </a:lnTo>
                <a:close/>
              </a:path>
              <a:path fill="lighten" w="68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7380360" y="5229360"/>
            <a:ext cx="1474560" cy="466560"/>
          </a:xfrm>
          <a:custGeom>
            <a:avLst/>
            <a:gdLst>
              <a:gd name="textAreaLeft" fmla="*/ 30240 w 1474560"/>
              <a:gd name="textAreaRight" fmla="*/ 1444320 w 1474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31" h="21600">
                <a:moveTo>
                  <a:pt x="0" y="0"/>
                </a:moveTo>
                <a:lnTo>
                  <a:pt x="68231" y="0"/>
                </a:lnTo>
                <a:lnTo>
                  <a:pt x="68231" y="21600"/>
                </a:lnTo>
                <a:lnTo>
                  <a:pt x="0" y="21600"/>
                </a:lnTo>
                <a:close/>
              </a:path>
              <a:path fill="lightenLess" w="68231" h="21600">
                <a:moveTo>
                  <a:pt x="0" y="0"/>
                </a:moveTo>
                <a:lnTo>
                  <a:pt x="68231" y="0"/>
                </a:lnTo>
                <a:lnTo>
                  <a:pt x="66831" y="1400"/>
                </a:lnTo>
                <a:lnTo>
                  <a:pt x="1400" y="1400"/>
                </a:lnTo>
                <a:close/>
              </a:path>
              <a:path fill="darken" w="68231" h="21600">
                <a:moveTo>
                  <a:pt x="68231" y="0"/>
                </a:moveTo>
                <a:lnTo>
                  <a:pt x="68231" y="21600"/>
                </a:lnTo>
                <a:lnTo>
                  <a:pt x="66831" y="20200"/>
                </a:lnTo>
                <a:lnTo>
                  <a:pt x="66831" y="1400"/>
                </a:lnTo>
                <a:close/>
              </a:path>
              <a:path fill="darkenLess" w="68231" h="21600">
                <a:moveTo>
                  <a:pt x="68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31" y="20200"/>
                </a:lnTo>
                <a:close/>
              </a:path>
              <a:path fill="lighten" w="68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ородино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539640" y="1484280"/>
            <a:ext cx="828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99cc"/>
                </a:solidFill>
                <a:latin typeface="Tahoma"/>
              </a:rPr>
              <a:t>0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1"/>
          <a:stretch/>
        </p:blipFill>
        <p:spPr>
          <a:xfrm>
            <a:off x="0" y="1052640"/>
            <a:ext cx="1231920" cy="1800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2"/>
          <a:stretch/>
        </p:blipFill>
        <p:spPr>
          <a:xfrm>
            <a:off x="5545080" y="3730680"/>
            <a:ext cx="3598920" cy="1198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3"/>
          <p:cNvSpPr/>
          <p:nvPr/>
        </p:nvSpPr>
        <p:spPr>
          <a:xfrm>
            <a:off x="2771640" y="1643040"/>
            <a:ext cx="722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Arial"/>
              </a:rPr>
              <a:t>Какое сражение получило название «могилы французской кавалерии»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14" descr="picture404"/>
          <p:cNvPicPr/>
          <p:nvPr/>
        </p:nvPicPr>
        <p:blipFill>
          <a:blip r:embed="rId3"/>
          <a:stretch/>
        </p:blipFill>
        <p:spPr>
          <a:xfrm>
            <a:off x="971640" y="3500280"/>
            <a:ext cx="4103640" cy="2494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5"/>
          <p:cNvSpPr/>
          <p:nvPr/>
        </p:nvSpPr>
        <p:spPr>
          <a:xfrm>
            <a:off x="900000" y="607860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ородинское сражени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20:51:06Z</dcterms:created>
  <dc:creator>СЕРГЕЙ</dc:creator>
  <dc:description/>
  <dc:language>en-US</dc:language>
  <cp:lastModifiedBy>dernovaya</cp:lastModifiedBy>
  <dcterms:modified xsi:type="dcterms:W3CDTF">2012-05-18T04:18:23Z</dcterms:modified>
  <cp:revision>93</cp:revision>
  <dc:subject/>
  <dc:title>Слайд 1</dc:title>
</cp:coreProperties>
</file>